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1C8-BD20-4EDE-B1A4-8E65753B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5FE-3E05-4FB7-AC8A-3A43D3DF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D16-0895-47CD-A340-67B76B1D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DF7-F1C2-4683-9686-26B31B60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9467-E129-4DD7-A882-A7BAADC9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AE07-A921-43A0-97B6-4B86BD6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41FA-E399-4E2D-A5DB-5BB7952D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5FE3-8D3B-4E39-BA0D-3D7EA60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EF7D-1F1A-4A2D-AB25-5FBDF5B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2297-54E5-4153-9CE2-56510B5C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ED26-A060-4F71-8672-C59213D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500-BA68-438F-AAA3-DA1D80A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EE2-8898-493F-9EFB-63DC102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E74F-084F-4306-BAFD-7E5DE07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8374-3D3A-48E6-ACC0-4E1687A6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048-0E80-4C0E-A572-95569EFE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566E-D684-4CD9-AB3B-B6EC4317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D80-0FAD-4324-B926-DD9E9D2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A53-86C5-44C8-91E6-21C1415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2E7-62A6-4E6B-AFE4-5635FA2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5F1-4E1F-43FB-92FB-C9273376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0EE-50DE-4F68-BB07-DE31B90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4BF-89A3-431D-B868-D842AA8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2C1-6A9F-4C53-A27A-741F89F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2D88-E24E-40B2-A25D-E8D06E325B0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F1EA-8164-41DE-BCD1-461DEE9AFD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ifferent Energy Sources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859280" y="2781360"/>
            <a:ext cx="378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USTIN G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1943280" cy="1657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1943280" cy="1584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780000" y="4581360"/>
            <a:ext cx="1800000" cy="15130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1979640" y="4581360"/>
            <a:ext cx="180036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 rot="1115400">
            <a:off x="900000" y="476280"/>
            <a:ext cx="3275280" cy="3573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rot="20233800">
            <a:off x="4427640" y="1052280"/>
            <a:ext cx="4319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ND POWER!</a:t>
            </a:r>
            <a:br>
              <a:rPr sz="32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IND POWER ENERGATES BY THE WIND TURNING THE BLADES AROUND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 rot="20020800">
            <a:off x="4427640" y="364500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 rot="20083200">
            <a:off x="1508040" y="847800"/>
            <a:ext cx="38577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AR POW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2565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SOLAR POWER CARS,BOATS AND PLAN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 rot="20460600">
            <a:off x="1258560" y="4076280"/>
            <a:ext cx="2592360" cy="1440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 rot="1270800">
            <a:off x="5651280" y="2707920"/>
            <a:ext cx="2160360" cy="1557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 rot="19392600">
            <a:off x="4879800" y="4572000"/>
            <a:ext cx="19447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 rot="5400000">
            <a:off x="-2637720" y="2888280"/>
            <a:ext cx="685800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YDROELECTRICITY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 rot="750000">
            <a:off x="1983960" y="853560"/>
            <a:ext cx="3600360" cy="2962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 rot="20407800">
            <a:off x="5435280" y="3860280"/>
            <a:ext cx="3505320" cy="1933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 rot="20399400">
            <a:off x="1687680" y="4797360"/>
            <a:ext cx="28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YDROELECTRICTY IS 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LEAN SOURCE FOR T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ENVIOR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 rot="1313400">
            <a:off x="4730400" y="126000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UCL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 rot="1140600">
            <a:off x="611280" y="836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4141800" cy="3114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rot="19993800">
            <a:off x="1001880" y="4005000"/>
            <a:ext cx="26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CLEAR ENERGY I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ERY CLEAN FOR T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ENVIROMENT BUT IT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N RENEWAB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920" y="404640"/>
            <a:ext cx="86421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IDAL ENERG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18730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 rot="979200">
            <a:off x="4932000" y="3429000"/>
            <a:ext cx="3962520" cy="19843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rot="20871000">
            <a:off x="684360" y="5084280"/>
            <a:ext cx="42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IDAL ENERGY IS A CLEAN SOURCE BUT IT WRECKS THE SHORE THE BECAUSE OF THE TUBES WITH THE LINES INSIDE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9:12:00Z</dcterms:created>
  <dc:creator>HWDSB</dc:creator>
  <dc:description/>
  <dc:language>en-US</dc:language>
  <cp:lastModifiedBy>HWDSB</cp:lastModifiedBy>
  <dcterms:modified xsi:type="dcterms:W3CDTF">2011-01-13T15:23:50Z</dcterms:modified>
  <cp:revision>5</cp:revision>
  <dc:subject/>
  <dc:title>Different Energy Sources </dc:title>
</cp:coreProperties>
</file>